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dust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22920" indent="-32292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dus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lvl="1" marL="686880" indent="-32256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dus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lvl="2" marL="1051560" indent="-32292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dus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lvl="3" marL="1416240" indent="-322920"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dus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lvl="4" marL="1780920" indent="-322920"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dus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lvl="5" marL="1780920" indent="-322920">
              <a:spcBef>
                <a:spcPts val="3200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dus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lvl="6" marL="1780920" indent="-322920">
              <a:spcBef>
                <a:spcPts val="3200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dus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dust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>
              <a:spcBef>
                <a:spcPts val="36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1" marL="325800" indent="0">
              <a:spcBef>
                <a:spcPts val="36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2" marL="651240" indent="217080">
              <a:spcBef>
                <a:spcPts val="3600"/>
              </a:spcBef>
              <a:buClr>
                <a:srgbClr val="ffffff"/>
              </a:buClr>
              <a:buFont typeface="Chalkduster"/>
              <a:buChar char="•"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3" marL="977400" indent="325440">
              <a:spcBef>
                <a:spcPts val="3600"/>
              </a:spcBef>
              <a:buClr>
                <a:srgbClr val="ffffff"/>
              </a:buClr>
              <a:buFont typeface="Chalkduster"/>
              <a:buChar char="–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4" marL="1302840" indent="434160">
              <a:spcBef>
                <a:spcPts val="3600"/>
              </a:spcBef>
              <a:buClr>
                <a:srgbClr val="ffffff"/>
              </a:buClr>
              <a:buFont typeface="Chalkduster"/>
              <a:buChar char="»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5" marL="1302840" indent="434160">
              <a:spcBef>
                <a:spcPts val="901"/>
              </a:spcBef>
              <a:buClr>
                <a:srgbClr val="000000"/>
              </a:buClr>
              <a:buFont typeface="Chalkdus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6" marL="1302840" indent="434160">
              <a:spcBef>
                <a:spcPts val="901"/>
              </a:spcBef>
              <a:buClr>
                <a:srgbClr val="000000"/>
              </a:buClr>
              <a:buFont typeface="Chalkdus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dust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"/>
          <p:cNvGrpSpPr/>
          <p:nvPr/>
        </p:nvGrpSpPr>
        <p:grpSpPr>
          <a:xfrm>
            <a:off x="7085160" y="0"/>
            <a:ext cx="5686920" cy="4328280"/>
            <a:chOff x="7085160" y="0"/>
            <a:chExt cx="5686920" cy="4328280"/>
          </a:xfrm>
        </p:grpSpPr>
        <p:pic>
          <p:nvPicPr>
            <p:cNvPr id="114" name="Picture 2" descr="InsertedImage.jpg"/>
            <p:cNvPicPr/>
            <p:nvPr/>
          </p:nvPicPr>
          <p:blipFill>
            <a:blip r:embed="rId1"/>
            <a:srcRect l="7776" t="0" r="7776" b="0"/>
            <a:stretch/>
          </p:blipFill>
          <p:spPr>
            <a:xfrm>
              <a:off x="7148160" y="63000"/>
              <a:ext cx="5560200" cy="420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3" descr=""/>
            <p:cNvPicPr/>
            <p:nvPr/>
          </p:nvPicPr>
          <p:blipFill>
            <a:blip r:embed="rId2"/>
            <a:stretch/>
          </p:blipFill>
          <p:spPr>
            <a:xfrm>
              <a:off x="7085160" y="0"/>
              <a:ext cx="5686920" cy="432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449640" y="7226280"/>
            <a:ext cx="13633560" cy="24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d7b81d"/>
                </a:solidFill>
                <a:latin typeface="Snell Roundhand"/>
                <a:ea typeface="Snell Roundhand"/>
              </a:rPr>
              <a:t>UAE Statistics</a:t>
            </a:r>
            <a:br>
              <a:rPr sz="7200"/>
            </a:br>
            <a:r>
              <a:rPr b="0" lang="en-US" sz="7200" spc="-1" strike="noStrike">
                <a:solidFill>
                  <a:srgbClr val="d7b81d"/>
                </a:solidFill>
                <a:latin typeface="Snell Roundhand"/>
                <a:ea typeface="Snell Roundhand"/>
              </a:rPr>
              <a:t>In Education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117" name="Picture 5" descr="InsertedImage.jpg"/>
          <p:cNvPicPr/>
          <p:nvPr/>
        </p:nvPicPr>
        <p:blipFill>
          <a:blip r:embed="rId3"/>
          <a:stretch/>
        </p:blipFill>
        <p:spPr>
          <a:xfrm>
            <a:off x="12600" y="12600"/>
            <a:ext cx="6562800" cy="4305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1357696" presetSubtype="428494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1060560" y="1473120"/>
            <a:ext cx="10395000" cy="68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200" spc="-1" strike="noStrike">
                <a:solidFill>
                  <a:srgbClr val="d7b81d"/>
                </a:solidFill>
                <a:latin typeface="Zapfino"/>
                <a:ea typeface="Zapfino"/>
              </a:rPr>
              <a:t>Thanks for giving us your time and we wish that you enjoyed our KeyNote</a:t>
            </a:r>
            <a:endParaRPr b="0" lang="en-US" sz="52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1359616" presetSubtype="1760819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"/>
          <p:cNvGrpSpPr/>
          <p:nvPr/>
        </p:nvGrpSpPr>
        <p:grpSpPr>
          <a:xfrm>
            <a:off x="2730600" y="977760"/>
            <a:ext cx="7912800" cy="7795440"/>
            <a:chOff x="2730600" y="977760"/>
            <a:chExt cx="7912800" cy="7795440"/>
          </a:xfrm>
        </p:grpSpPr>
        <p:sp>
          <p:nvSpPr>
            <p:cNvPr id="174" name="Rectangle 2"/>
            <p:cNvSpPr/>
            <p:nvPr/>
          </p:nvSpPr>
          <p:spPr>
            <a:xfrm>
              <a:off x="2767680" y="1014840"/>
              <a:ext cx="7835040" cy="77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halkduster"/>
                </a:rPr>
                <a:t>Done by :</a:t>
              </a: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halkduster"/>
                </a:rPr>
                <a:t>Abdulaziz AlKaabi</a:t>
              </a: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halkduster"/>
                </a:rPr>
                <a:t>Nasser AlNeyadi</a:t>
              </a: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halkduster"/>
                </a:rPr>
                <a:t>Khalid AlHousani</a:t>
              </a: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halkduster"/>
                </a:rPr>
                <a:t>Hamdan AlNuaimi</a:t>
              </a: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halkduster"/>
                </a:rPr>
                <a:t>Salman AlAreefi</a:t>
              </a: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</p:txBody>
        </p:sp>
        <p:pic>
          <p:nvPicPr>
            <p:cNvPr id="175" name="Picture 3" descr=""/>
            <p:cNvPicPr/>
            <p:nvPr/>
          </p:nvPicPr>
          <p:blipFill>
            <a:blip r:embed="rId1"/>
            <a:stretch/>
          </p:blipFill>
          <p:spPr>
            <a:xfrm>
              <a:off x="2730600" y="977760"/>
              <a:ext cx="7912800" cy="7795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1"/>
          <p:cNvGrpSpPr/>
          <p:nvPr/>
        </p:nvGrpSpPr>
        <p:grpSpPr>
          <a:xfrm>
            <a:off x="8537400" y="2946240"/>
            <a:ext cx="4264920" cy="5610960"/>
            <a:chOff x="8537400" y="2946240"/>
            <a:chExt cx="4264920" cy="5610960"/>
          </a:xfrm>
        </p:grpSpPr>
        <p:pic>
          <p:nvPicPr>
            <p:cNvPr id="119" name="Picture 2" descr="InsertedImage.jpg"/>
            <p:cNvPicPr/>
            <p:nvPr/>
          </p:nvPicPr>
          <p:blipFill>
            <a:blip r:embed="rId1"/>
            <a:srcRect l="0" t="302" r="0" b="302"/>
            <a:stretch/>
          </p:blipFill>
          <p:spPr>
            <a:xfrm>
              <a:off x="8600400" y="3009240"/>
              <a:ext cx="4138200" cy="54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3" descr=""/>
            <p:cNvPicPr/>
            <p:nvPr/>
          </p:nvPicPr>
          <p:blipFill>
            <a:blip r:embed="rId2"/>
            <a:stretch/>
          </p:blipFill>
          <p:spPr>
            <a:xfrm>
              <a:off x="8537400" y="2946240"/>
              <a:ext cx="4264920" cy="561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06080" y="3277800"/>
            <a:ext cx="5748120" cy="494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330480" indent="-330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What kind of subject are used in schools and education?</a:t>
            </a:r>
            <a:endParaRPr b="0" lang="en-US" sz="1600" spc="-1" strike="noStrike">
              <a:solidFill>
                <a:srgbClr val="ffffff"/>
              </a:solidFill>
              <a:latin typeface="Chalkduster"/>
            </a:endParaRPr>
          </a:p>
          <a:p>
            <a:pPr marL="330480" indent="-330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What kind of qualification  do the tertiary  education give?</a:t>
            </a:r>
            <a:endParaRPr b="0" lang="en-US" sz="1600" spc="-1" strike="noStrike">
              <a:solidFill>
                <a:srgbClr val="ffffff"/>
              </a:solidFill>
              <a:latin typeface="Chalkduster"/>
            </a:endParaRPr>
          </a:p>
          <a:p>
            <a:pPr marL="330480" indent="-330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What is the most popular Major for HCT students?</a:t>
            </a:r>
            <a:endParaRPr b="0" lang="en-US" sz="1600" spc="-1" strike="noStrike">
              <a:solidFill>
                <a:srgbClr val="ffffff"/>
              </a:solidFill>
              <a:latin typeface="Chalkduster"/>
            </a:endParaRPr>
          </a:p>
          <a:p>
            <a:pPr marL="330480" indent="-330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How many hours do students spend it per week in high schools in UAE?</a:t>
            </a:r>
            <a:endParaRPr b="0" lang="en-US" sz="1600" spc="-1" strike="noStrike">
              <a:solidFill>
                <a:srgbClr val="ffffff"/>
              </a:solidFill>
              <a:latin typeface="Chalkduster"/>
            </a:endParaRPr>
          </a:p>
          <a:p>
            <a:pPr marL="330480" indent="-330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How much money did UAE spend on education ?</a:t>
            </a:r>
            <a:endParaRPr b="0" lang="en-US" sz="1600" spc="-1" strike="noStrike">
              <a:solidFill>
                <a:srgbClr val="ffffff"/>
              </a:solidFill>
              <a:latin typeface="Chalkduster"/>
            </a:endParaRPr>
          </a:p>
          <a:p>
            <a:pPr marL="330480" indent="-330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What kind of subject do the teachers use to teach their students?</a:t>
            </a:r>
            <a:endParaRPr b="0" lang="en-US" sz="1600" spc="-1" strike="noStrike">
              <a:solidFill>
                <a:srgbClr val="ffffff"/>
              </a:solidFill>
              <a:latin typeface="Chalkduster"/>
            </a:endParaRPr>
          </a:p>
          <a:p>
            <a:pPr lvl="1" marL="703800" indent="-330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9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What kind of schools in the UAE and how many of them?</a:t>
            </a:r>
            <a:endParaRPr b="0" lang="en-US" sz="1600" spc="-1" strike="noStrike">
              <a:solidFill>
                <a:srgbClr val="ffffff"/>
              </a:solidFill>
              <a:latin typeface="Chalkduster"/>
            </a:endParaRPr>
          </a:p>
          <a:p>
            <a:pPr lvl="1" marL="703800" indent="-330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10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How many students enroll in 2008/2009?</a:t>
            </a:r>
            <a:endParaRPr b="0" lang="en-US" sz="1600" spc="-1" strike="noStrike">
              <a:solidFill>
                <a:srgbClr val="ffffff"/>
              </a:solidFill>
              <a:latin typeface="Chalkduster"/>
            </a:endParaRPr>
          </a:p>
          <a:p>
            <a:pPr lvl="1" marL="703800" indent="-330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11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What the amount of teachers by percentage in the UAE?</a:t>
            </a:r>
            <a:endParaRPr b="0" lang="en-US" sz="1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263600" y="-173160"/>
            <a:ext cx="104760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800" spc="-1" strike="noStrike" u="sng">
                <a:solidFill>
                  <a:srgbClr val="ffffff"/>
                </a:solidFill>
                <a:uFillTx/>
                <a:latin typeface="Marker Felt"/>
                <a:ea typeface="Marker Felt"/>
              </a:rPr>
              <a:t>Education Statistics in United Arab Emirates </a:t>
            </a:r>
            <a:endParaRPr b="0" lang="en-US" sz="68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"/>
          <p:cNvGrpSpPr/>
          <p:nvPr/>
        </p:nvGrpSpPr>
        <p:grpSpPr>
          <a:xfrm>
            <a:off x="7951680" y="3130560"/>
            <a:ext cx="5050440" cy="6652440"/>
            <a:chOff x="7951680" y="3130560"/>
            <a:chExt cx="5050440" cy="6652440"/>
          </a:xfrm>
        </p:grpSpPr>
        <p:pic>
          <p:nvPicPr>
            <p:cNvPr id="124" name="Picture 2" descr="InsertedImage.jpg"/>
            <p:cNvPicPr/>
            <p:nvPr/>
          </p:nvPicPr>
          <p:blipFill>
            <a:blip r:embed="rId1"/>
            <a:srcRect l="12275" t="0" r="12275" b="0"/>
            <a:stretch/>
          </p:blipFill>
          <p:spPr>
            <a:xfrm>
              <a:off x="8014680" y="3193560"/>
              <a:ext cx="4923720" cy="65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3" descr=""/>
            <p:cNvPicPr/>
            <p:nvPr/>
          </p:nvPicPr>
          <p:blipFill>
            <a:blip r:embed="rId2"/>
            <a:stretch/>
          </p:blipFill>
          <p:spPr>
            <a:xfrm>
              <a:off x="7951680" y="3130560"/>
              <a:ext cx="5050440" cy="665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d1c2f3"/>
                </a:solidFill>
                <a:latin typeface="Marker Felt"/>
                <a:ea typeface="Marker Felt"/>
              </a:rPr>
              <a:t>What kind of subject are in schools and colleges?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6040" y="3068640"/>
            <a:ext cx="6031080" cy="678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English 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Math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Arabic 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Geology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 </a:t>
            </a: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Chemistry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 </a:t>
            </a: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 </a:t>
            </a: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transition spd="med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910080" presetSubtype="428504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910080" presetSubtype="428511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"/>
          <p:cNvGrpSpPr/>
          <p:nvPr/>
        </p:nvGrpSpPr>
        <p:grpSpPr>
          <a:xfrm>
            <a:off x="7410600" y="2778120"/>
            <a:ext cx="5188320" cy="6834960"/>
            <a:chOff x="7410600" y="2778120"/>
            <a:chExt cx="5188320" cy="6834960"/>
          </a:xfrm>
        </p:grpSpPr>
        <p:pic>
          <p:nvPicPr>
            <p:cNvPr id="129" name="Picture 2" descr="InsertedImage.jpg"/>
            <p:cNvPicPr/>
            <p:nvPr/>
          </p:nvPicPr>
          <p:blipFill>
            <a:blip r:embed="rId1"/>
            <a:srcRect l="18559" t="0" r="18559" b="0"/>
            <a:stretch/>
          </p:blipFill>
          <p:spPr>
            <a:xfrm>
              <a:off x="7473600" y="2841120"/>
              <a:ext cx="5061600" cy="67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3" descr=""/>
            <p:cNvPicPr/>
            <p:nvPr/>
          </p:nvPicPr>
          <p:blipFill>
            <a:blip r:embed="rId2"/>
            <a:stretch/>
          </p:blipFill>
          <p:spPr>
            <a:xfrm>
              <a:off x="7410600" y="2778120"/>
              <a:ext cx="5188320" cy="68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d1c2f3"/>
                </a:solidFill>
                <a:latin typeface="Marker Felt"/>
                <a:ea typeface="Marker Felt"/>
              </a:rPr>
              <a:t>What qualifications  does the tertiary  education give? 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High schools.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Bachelor.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Master.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PHD .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d1c2f3"/>
                </a:solidFill>
                <a:latin typeface="Marker Felt"/>
                <a:ea typeface="Marker Felt"/>
              </a:rPr>
              <a:t>How much money did UAE spend on eduction ?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0760" y="2870280"/>
            <a:ext cx="501012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In 2009 UAE spend about 4.80 million DH for education.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In 2010 UAE spend about 5.15 million DH for education.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7323120" y="2727360"/>
            <a:ext cx="4939560" cy="3132720"/>
            <a:chOff x="7323120" y="2727360"/>
            <a:chExt cx="4939560" cy="3132720"/>
          </a:xfrm>
        </p:grpSpPr>
        <p:pic>
          <p:nvPicPr>
            <p:cNvPr id="136" name="Picture 4" descr="InsertedImage.jpg"/>
            <p:cNvPicPr/>
            <p:nvPr/>
          </p:nvPicPr>
          <p:blipFill>
            <a:blip r:embed="rId4"/>
            <a:stretch/>
          </p:blipFill>
          <p:spPr>
            <a:xfrm>
              <a:off x="7386120" y="2790360"/>
              <a:ext cx="4813200" cy="30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5" descr=""/>
            <p:cNvPicPr/>
            <p:nvPr/>
          </p:nvPicPr>
          <p:blipFill>
            <a:blip r:embed="rId5"/>
            <a:stretch/>
          </p:blipFill>
          <p:spPr>
            <a:xfrm>
              <a:off x="7323120" y="2727360"/>
              <a:ext cx="4939560" cy="313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6"/>
          <p:cNvGrpSpPr/>
          <p:nvPr/>
        </p:nvGrpSpPr>
        <p:grpSpPr>
          <a:xfrm>
            <a:off x="7323120" y="5996160"/>
            <a:ext cx="4906080" cy="2835720"/>
            <a:chOff x="7323120" y="5996160"/>
            <a:chExt cx="4906080" cy="2835720"/>
          </a:xfrm>
        </p:grpSpPr>
        <p:pic>
          <p:nvPicPr>
            <p:cNvPr id="139" name="Picture 7" descr="InsertedImage.jpg"/>
            <p:cNvPicPr/>
            <p:nvPr/>
          </p:nvPicPr>
          <p:blipFill>
            <a:blip r:embed="rId6"/>
            <a:stretch/>
          </p:blipFill>
          <p:spPr>
            <a:xfrm>
              <a:off x="7386120" y="6059160"/>
              <a:ext cx="4779360" cy="27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8" descr=""/>
            <p:cNvPicPr/>
            <p:nvPr/>
          </p:nvPicPr>
          <p:blipFill>
            <a:blip r:embed="rId7"/>
            <a:stretch/>
          </p:blipFill>
          <p:spPr>
            <a:xfrm>
              <a:off x="7323120" y="5996160"/>
              <a:ext cx="4906080" cy="283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d1c2f3"/>
                </a:solidFill>
                <a:latin typeface="Marker Felt"/>
                <a:ea typeface="Marker Felt"/>
              </a:rPr>
              <a:t>What kind of subject do the teachers use to teach their students?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1880" y="3009600"/>
            <a:ext cx="510552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Maps for Geography.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Dissect animals for Biology.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Models for Geology.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  <a:p>
            <a:pPr marL="393840" indent="-3938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6f2c6"/>
                </a:solidFill>
                <a:latin typeface="Bradley Hand ITC TT-Bold"/>
                <a:ea typeface="Bradley Hand ITC TT-Bold"/>
              </a:rPr>
              <a:t>Chemical experiments for Chemistry. </a:t>
            </a:r>
            <a:endParaRPr b="0" lang="en-US" sz="3200" spc="-1" strike="noStrike">
              <a:solidFill>
                <a:srgbClr val="ffffff"/>
              </a:solidFill>
              <a:latin typeface="Chalkduster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6221520" y="3009960"/>
            <a:ext cx="5250240" cy="4690080"/>
            <a:chOff x="6221520" y="3009960"/>
            <a:chExt cx="5250240" cy="4690080"/>
          </a:xfrm>
        </p:grpSpPr>
        <p:pic>
          <p:nvPicPr>
            <p:cNvPr id="144" name="Picture 4" descr="InsertedImage.jpg"/>
            <p:cNvPicPr/>
            <p:nvPr/>
          </p:nvPicPr>
          <p:blipFill>
            <a:blip r:embed="rId5"/>
            <a:stretch/>
          </p:blipFill>
          <p:spPr>
            <a:xfrm>
              <a:off x="6273000" y="3072960"/>
              <a:ext cx="5135040" cy="456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5" descr=""/>
            <p:cNvPicPr/>
            <p:nvPr/>
          </p:nvPicPr>
          <p:blipFill>
            <a:blip r:embed="rId6"/>
            <a:stretch/>
          </p:blipFill>
          <p:spPr>
            <a:xfrm>
              <a:off x="6221520" y="3009960"/>
              <a:ext cx="5250240" cy="4690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911232" presetSubtype="1760792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InsertedImage.jpg"/>
          <p:cNvPicPr/>
          <p:nvPr/>
        </p:nvPicPr>
        <p:blipFill>
          <a:blip r:embed="rId1"/>
          <a:stretch/>
        </p:blipFill>
        <p:spPr>
          <a:xfrm>
            <a:off x="7140600" y="771480"/>
            <a:ext cx="5732280" cy="41893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47" name="Rectangle 2"/>
          <p:cNvSpPr/>
          <p:nvPr/>
        </p:nvSpPr>
        <p:spPr>
          <a:xfrm>
            <a:off x="523800" y="0"/>
            <a:ext cx="11955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d1c2f3"/>
                </a:solidFill>
                <a:latin typeface="Marker Felt"/>
                <a:ea typeface="Marker Felt"/>
              </a:rPr>
              <a:t>What kind of schools in the UAE and how many of them?</a:t>
            </a:r>
            <a:endParaRPr b="0" lang="en-US" sz="31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148" name="Picture 3" descr="InsertedImage.png"/>
          <p:cNvPicPr/>
          <p:nvPr/>
        </p:nvPicPr>
        <p:blipFill>
          <a:blip r:embed="rId2"/>
          <a:srcRect l="7814" t="13344" r="7814" b="7809"/>
          <a:stretch/>
        </p:blipFill>
        <p:spPr>
          <a:xfrm>
            <a:off x="574560" y="771480"/>
            <a:ext cx="5980320" cy="41893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grpSp>
        <p:nvGrpSpPr>
          <p:cNvPr id="149" name="Group 4"/>
          <p:cNvGrpSpPr/>
          <p:nvPr/>
        </p:nvGrpSpPr>
        <p:grpSpPr>
          <a:xfrm>
            <a:off x="790560" y="5545080"/>
            <a:ext cx="11692440" cy="3731400"/>
            <a:chOff x="790560" y="5545080"/>
            <a:chExt cx="11692440" cy="3731400"/>
          </a:xfrm>
        </p:grpSpPr>
        <p:sp>
          <p:nvSpPr>
            <p:cNvPr id="150" name="Rectangle 5"/>
            <p:cNvSpPr/>
            <p:nvPr/>
          </p:nvSpPr>
          <p:spPr>
            <a:xfrm>
              <a:off x="842040" y="5596560"/>
              <a:ext cx="11591640" cy="36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halkduster"/>
                </a:rPr>
                <a:t>Private schools , 305 school and 92223 Emirati students.</a:t>
              </a: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halkduster"/>
                </a:rPr>
                <a:t>Public schools , 184 schools and 40915 Emirati students.</a:t>
              </a: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</p:txBody>
        </p:sp>
        <p:pic>
          <p:nvPicPr>
            <p:cNvPr id="151" name="Picture 6" descr=""/>
            <p:cNvPicPr/>
            <p:nvPr/>
          </p:nvPicPr>
          <p:blipFill>
            <a:blip r:embed="rId3"/>
            <a:stretch/>
          </p:blipFill>
          <p:spPr>
            <a:xfrm>
              <a:off x="790560" y="5545080"/>
              <a:ext cx="11692440" cy="3731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InsertedImage.png"/>
          <p:cNvPicPr/>
          <p:nvPr/>
        </p:nvPicPr>
        <p:blipFill>
          <a:blip r:embed="rId1"/>
          <a:srcRect l="7911" t="20608" r="13219" b="33490"/>
          <a:stretch/>
        </p:blipFill>
        <p:spPr>
          <a:xfrm>
            <a:off x="4021200" y="1509840"/>
            <a:ext cx="5154480" cy="3998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53" name="Rectangle 2"/>
          <p:cNvSpPr/>
          <p:nvPr/>
        </p:nvSpPr>
        <p:spPr>
          <a:xfrm>
            <a:off x="1479600" y="0"/>
            <a:ext cx="1004400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d1c2f3"/>
                </a:solidFill>
                <a:latin typeface="Chalkduster"/>
              </a:rPr>
              <a:t>What the amount of teachers by percentage in the UAE?</a:t>
            </a:r>
            <a:endParaRPr b="0" lang="en-US" sz="4200" spc="-1" strike="noStrike">
              <a:solidFill>
                <a:srgbClr val="ffffff"/>
              </a:solidFill>
              <a:latin typeface="Chalkduster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204840" y="5545080"/>
            <a:ext cx="4882320" cy="4061520"/>
            <a:chOff x="204840" y="5545080"/>
            <a:chExt cx="4882320" cy="4061520"/>
          </a:xfrm>
        </p:grpSpPr>
        <p:sp>
          <p:nvSpPr>
            <p:cNvPr id="155" name="Rectangle 4"/>
            <p:cNvSpPr/>
            <p:nvPr/>
          </p:nvSpPr>
          <p:spPr>
            <a:xfrm>
              <a:off x="256320" y="5596560"/>
              <a:ext cx="4778640" cy="39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halkduster"/>
                </a:rPr>
                <a:t>In Abu Dhabi it was 53.8% in 2000/2001.</a:t>
              </a:r>
              <a:endParaRPr b="0" lang="en-US" sz="24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halkduster"/>
                </a:rPr>
                <a:t>In Al Ain it was 36.4% in 2000/2001.</a:t>
              </a:r>
              <a:endParaRPr b="0" lang="en-US" sz="24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halkduster"/>
                </a:rPr>
                <a:t>In western it was 9.8% in 2000/2001.</a:t>
              </a:r>
              <a:endParaRPr b="0" lang="en-US" sz="2400" spc="-1" strike="noStrike">
                <a:solidFill>
                  <a:srgbClr val="ffffff"/>
                </a:solidFill>
                <a:latin typeface="Chalkduster"/>
              </a:endParaRPr>
            </a:p>
          </p:txBody>
        </p:sp>
        <p:pic>
          <p:nvPicPr>
            <p:cNvPr id="156" name="Picture 5" descr=""/>
            <p:cNvPicPr/>
            <p:nvPr/>
          </p:nvPicPr>
          <p:blipFill>
            <a:blip r:embed="rId2"/>
            <a:stretch/>
          </p:blipFill>
          <p:spPr>
            <a:xfrm>
              <a:off x="204840" y="5545080"/>
              <a:ext cx="4882320" cy="406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AutoShape 6"/>
          <p:cNvSpPr/>
          <p:nvPr/>
        </p:nvSpPr>
        <p:spPr>
          <a:xfrm>
            <a:off x="5925960" y="6700680"/>
            <a:ext cx="1752840" cy="1752840"/>
          </a:xfrm>
          <a:prstGeom prst="rightArrow">
            <a:avLst>
              <a:gd name="adj1" fmla="val 32000"/>
              <a:gd name="adj2" fmla="val 69560"/>
            </a:avLst>
          </a:prstGeom>
          <a:gradFill rotWithShape="0">
            <a:gsLst>
              <a:gs pos="0">
                <a:srgbClr val="8baf77"/>
              </a:gs>
              <a:gs pos="100000">
                <a:srgbClr val="2c822a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Chalkduster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8515440" y="5545080"/>
            <a:ext cx="4553640" cy="4061520"/>
            <a:chOff x="8515440" y="5545080"/>
            <a:chExt cx="4553640" cy="4061520"/>
          </a:xfrm>
        </p:grpSpPr>
        <p:sp>
          <p:nvSpPr>
            <p:cNvPr id="159" name="Rectangle 8"/>
            <p:cNvSpPr/>
            <p:nvPr/>
          </p:nvSpPr>
          <p:spPr>
            <a:xfrm>
              <a:off x="8566920" y="5596560"/>
              <a:ext cx="4449960" cy="39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halkduster"/>
                </a:rPr>
                <a:t>In Abu Dhabi it was 55.8% in 2000/2001.</a:t>
              </a:r>
              <a:endParaRPr b="0" lang="en-US" sz="24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halkduster"/>
                </a:rPr>
                <a:t>In Al Ain it was 35.8% in 2000/2001.</a:t>
              </a:r>
              <a:endParaRPr b="0" lang="en-US" sz="24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halkduster"/>
                </a:rPr>
                <a:t>In western it was 8.4% in 2000/2001.</a:t>
              </a:r>
              <a:endParaRPr b="0" lang="en-US" sz="2400" spc="-1" strike="noStrike">
                <a:solidFill>
                  <a:srgbClr val="ffffff"/>
                </a:solidFill>
                <a:latin typeface="Chalkduster"/>
              </a:endParaRPr>
            </a:p>
          </p:txBody>
        </p:sp>
        <p:pic>
          <p:nvPicPr>
            <p:cNvPr id="160" name="Picture 9" descr=""/>
            <p:cNvPicPr/>
            <p:nvPr/>
          </p:nvPicPr>
          <p:blipFill>
            <a:blip r:embed="rId3"/>
            <a:stretch/>
          </p:blipFill>
          <p:spPr>
            <a:xfrm>
              <a:off x="8515440" y="5545080"/>
              <a:ext cx="4553640" cy="40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Group 10"/>
          <p:cNvGrpSpPr/>
          <p:nvPr/>
        </p:nvGrpSpPr>
        <p:grpSpPr>
          <a:xfrm>
            <a:off x="331920" y="4381560"/>
            <a:ext cx="3397680" cy="988200"/>
            <a:chOff x="331920" y="4381560"/>
            <a:chExt cx="3397680" cy="988200"/>
          </a:xfrm>
        </p:grpSpPr>
        <p:sp>
          <p:nvSpPr>
            <p:cNvPr id="162" name="Rectangle 11"/>
            <p:cNvSpPr/>
            <p:nvPr/>
          </p:nvSpPr>
          <p:spPr>
            <a:xfrm>
              <a:off x="383400" y="4433040"/>
              <a:ext cx="329400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halkduster"/>
                </a:rPr>
                <a:t>2000/2001</a:t>
              </a: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</p:txBody>
        </p:sp>
        <p:pic>
          <p:nvPicPr>
            <p:cNvPr id="163" name="Picture 12" descr=""/>
            <p:cNvPicPr/>
            <p:nvPr/>
          </p:nvPicPr>
          <p:blipFill>
            <a:blip r:embed="rId4"/>
            <a:stretch/>
          </p:blipFill>
          <p:spPr>
            <a:xfrm>
              <a:off x="331920" y="4381560"/>
              <a:ext cx="3397680" cy="98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Group 13"/>
          <p:cNvGrpSpPr/>
          <p:nvPr/>
        </p:nvGrpSpPr>
        <p:grpSpPr>
          <a:xfrm>
            <a:off x="9464760" y="4381560"/>
            <a:ext cx="3391560" cy="988200"/>
            <a:chOff x="9464760" y="4381560"/>
            <a:chExt cx="3391560" cy="988200"/>
          </a:xfrm>
        </p:grpSpPr>
        <p:sp>
          <p:nvSpPr>
            <p:cNvPr id="165" name="Rectangle 14"/>
            <p:cNvSpPr/>
            <p:nvPr/>
          </p:nvSpPr>
          <p:spPr>
            <a:xfrm>
              <a:off x="9516240" y="4433040"/>
              <a:ext cx="32882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halkduster"/>
                </a:rPr>
                <a:t>2005/2006</a:t>
              </a: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</p:txBody>
        </p:sp>
        <p:pic>
          <p:nvPicPr>
            <p:cNvPr id="166" name="Picture 15" descr=""/>
            <p:cNvPicPr/>
            <p:nvPr/>
          </p:nvPicPr>
          <p:blipFill>
            <a:blip r:embed="rId5"/>
            <a:stretch/>
          </p:blipFill>
          <p:spPr>
            <a:xfrm>
              <a:off x="9464760" y="4381560"/>
              <a:ext cx="3391560" cy="988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1353960" y="304920"/>
            <a:ext cx="105998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1c2f3"/>
                </a:solidFill>
                <a:latin typeface="Chalkduster"/>
              </a:rPr>
              <a:t>How many students enroll in 2008/2009?</a:t>
            </a:r>
            <a:endParaRPr b="0" lang="en-US" sz="48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168" name="Picture 2" descr="InsertedImage.png"/>
          <p:cNvPicPr/>
          <p:nvPr/>
        </p:nvPicPr>
        <p:blipFill>
          <a:blip r:embed="rId1"/>
          <a:srcRect l="13265" t="18440" r="13265" b="51714"/>
          <a:stretch/>
        </p:blipFill>
        <p:spPr>
          <a:xfrm>
            <a:off x="6264360" y="2120760"/>
            <a:ext cx="6781680" cy="36734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grpSp>
        <p:nvGrpSpPr>
          <p:cNvPr id="169" name="Group 3"/>
          <p:cNvGrpSpPr/>
          <p:nvPr/>
        </p:nvGrpSpPr>
        <p:grpSpPr>
          <a:xfrm>
            <a:off x="0" y="2108160"/>
            <a:ext cx="6047280" cy="6474600"/>
            <a:chOff x="0" y="2108160"/>
            <a:chExt cx="6047280" cy="6474600"/>
          </a:xfrm>
        </p:grpSpPr>
        <p:sp>
          <p:nvSpPr>
            <p:cNvPr id="170" name="Rectangle 4"/>
            <p:cNvSpPr/>
            <p:nvPr/>
          </p:nvSpPr>
          <p:spPr>
            <a:xfrm>
              <a:off x="51480" y="2159640"/>
              <a:ext cx="5946480" cy="63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halkduster"/>
                </a:rPr>
                <a:t>Kindergarten :56.0</a:t>
              </a: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halkduster"/>
                </a:rPr>
                <a:t>Grade 1 : 115.0</a:t>
              </a: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halkduster"/>
                </a:rPr>
                <a:t>Cycle 1 : 88.0</a:t>
              </a: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halkduster"/>
                </a:rPr>
                <a:t>Cycle 2 : 70.0</a:t>
              </a: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halkduster"/>
                </a:rPr>
                <a:t>Secondary : 80.0</a:t>
              </a:r>
              <a:endParaRPr b="0" lang="en-US" sz="4200" spc="-1" strike="noStrike">
                <a:solidFill>
                  <a:srgbClr val="ffffff"/>
                </a:solidFill>
                <a:latin typeface="Chalkduster"/>
              </a:endParaRPr>
            </a:p>
          </p:txBody>
        </p:sp>
        <p:pic>
          <p:nvPicPr>
            <p:cNvPr id="171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2108160"/>
              <a:ext cx="6047280" cy="6474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dul Aziz Saif Mohammed Saeed Ali Al Kaabi(H00228131)</dc:creator>
  <dc:description/>
  <dc:language>en-US</dc:language>
  <cp:lastModifiedBy>aamc</cp:lastModifiedBy>
  <dcterms:modified xsi:type="dcterms:W3CDTF">2012-11-29T18:58:51Z</dcterms:modified>
  <cp:revision>1</cp:revision>
  <dc:subject/>
  <dc:title>UAE Statistics In Education</dc:title>
</cp:coreProperties>
</file>